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012-B358-4A6F-A0B1-F3A1A073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566A-3E99-48BD-B965-23CE754B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366-A8C0-4E76-ABA0-31C35FEC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62C-0371-467C-9E6A-69B638B8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D0F-11B8-4439-9E1E-69619DDB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38A-2055-4153-B07D-799CB124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9BFD-2DD0-45C5-86F0-412955F4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D170-952E-4513-BEE6-4942C5FF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640-83D6-412A-A885-E34633DD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68E-7E7E-4B3F-BDF6-A006B678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B5DC-1579-4FBE-901A-52CA616F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52A3-CED3-42B9-9EDD-1DBCBC2D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69EB-7B13-4FB2-9A5A-B0D5C248F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u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5078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uping Vir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ing of viruses is based on the presence of a capsid structure and an envelo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according to whether they contain RNA or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ed based on their shape and struc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us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and RNA viruses differ in the way they use the host cell’s machinery to produce new vir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NA virus may act in one of two way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irus may directly produce RNA that then make more viral prote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join with the host cell’s DNA to direct the synthesis of new viru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us brainp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3388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enter host cells and incorporate their nucleic acid into the host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ine for Viru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vacc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5181480" y="3352680"/>
            <a:ext cx="34578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u att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ral DNA is integrated into the host gen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NA then makes an RNA transcript of itsel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is then translated into proteins that become part of new vir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erse transcriptase reverses the normal process of transcription, in which DNA serves as a template for producing 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ccine is made from an antigen isolated or produced from the disease-causing microorganism. The vaccine is injected into the blood strea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 cells in the blood stream respond to the antigen by producing antibod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ntibodies bind to the antigen to "neutralize"or inactivate 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ddition, memory cells are produced and remain ready to mount a quick protective immune response against subsequent infection with the same disease causing ag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ccine BrainP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57200" y="609480"/>
          <a:ext cx="8229600" cy="5400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clei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ea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povavir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osahedral, non-en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ts, can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enovir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osahedral, non-en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iratory and intestinal inf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pesvir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osahedral, en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pes simplex, chickenpox, shingles, infectious mononucle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xvir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x brick-shaped, en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pox, cowp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cornavir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osahedral, non-en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omyelitis, hepatitis, can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xovir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lical, en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luenzaA,B, and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vir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osahedral, en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DS, can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ving or No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are not li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made up of nucleic acid and protein co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can have either RNA or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rmaceutical companies use viruses to develop new antiviral med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0481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vir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al RNA is released into the host cell’s cytopla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then uses the host cell’s ribosomes to produce new viral prote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troviru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RNA viruses that contain an enzyme called reverse transcriptase in addition to RNA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transcriptase uses RNA as a template to make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oids and Pr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oids – smallest known particles that are able to replicat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trand of RNA and has no capsi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isrupt plant cell metabolism and damage entire cro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tatoes, cucumbers, avocados, and oranges have been affected by viro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normal forms of proteins that clump together inside a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umping kills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s the cell’s molecular traff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no nucleic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e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apie --- she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vine Spongioform Encephalopathy ---- c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utzfeld-Jakob disease ---- hum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d Cow Dise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tal brain disease of catt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ep with scrapie were ground up to use as cow fe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ws got the disease from the fe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sheet ho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25: Sec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teriophag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that infect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use the bacteria to reprodu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break open from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oph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4343400" y="3371760"/>
            <a:ext cx="445788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cosahedr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acti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injects the nucleic acid into the host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b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assist in attaching to a host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3429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ytic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 invades a host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es new vir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troys the host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eases newly formed vir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lent – viruses that undergo the lytic cycle because they cause dis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ytic Cycle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teriophage attaches its tail fibers to a receptor site. (areas viruses recogni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teriophage releases an enzyme that weakens the spot on the cell wall of the ho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is injected into the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us takes control of the host’s protein-synthesizing mechanis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ins are made to create bacterioph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t cell disintegrates, lysis – viruses break from the ce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 vs. Vir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3520" y="1295280"/>
          <a:ext cx="8229600" cy="5211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acteristics of Li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w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os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bo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cle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NA o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y within host 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pendently by cell di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cleic acid core, protein covering, and, in some cases, an enve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toplasm, cell membrane, cytoskeleton, and in the eukaryotic cell, orga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ysogenic cyc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infecting a cell without immediate destru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 stays in cell for a long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mperate virus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 replicates and does not kill the host cell immediate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ysogenic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ysoge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the same way as the lytic cyc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ead of immediately creating new RNA and viral proteins, the bacteriophage DNA integratres itself into the host cell’s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phage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ophage DNA molecule that integrates itself into a specific place in the host cell’s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phage replicates whenever the bacterium reprodu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ul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or certain chemicals can cause a prophage to become virul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icle Assig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520" y="9140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 Allegany is being affected by a viral dis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write a news article about this dis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include:         write a creative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people are contracting this dis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ptoms of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tality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he virus reprodu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pe of the vi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 of the vi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atment (if there is an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how a vaccine can be made   teacher e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al Diseases to choose from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utzfeld-Jakob Disease --- Dy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1N1 Virus --- Jen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pox  ---Tay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ngles  --- Gab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patitis B  --- Rach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stein-Bar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 papillomavirus --- Meri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mps --- Lind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study of viruses call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a vaccine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cks the body into producing antibodies against the antigen in the vacc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three different shapes viral’s nucleic acid can be 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hel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o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hape of virus with triangular sides call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sahedr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components of a viru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in, nucleic a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nother name for the outside covering of a viru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ps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udy of vir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cause many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can change how a cell fun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21528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are viruses considered non-liv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’t replicate independen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organel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homeosta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virus made up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in and nucleic acid; either RNA or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udy of vir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in coat is called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ps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a virus with DNA infect a cel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irus may directly produce RNA that then make more viral prote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join with the host cell’s DNA to direct the synthesis of new viru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ic acid that causes dis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mad cow disease cau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es in the brain of cow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retroviruses infect a cel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s the ribosomes to make protein to make new retrovir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a virus takes part of the host’s membrane it forms a _____ around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retroviru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 with 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ions on the envelope are made up of w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prote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us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35 Wendell Stanley crystallized the tobacco mosaic vir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virus withers tobacco lea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suggested that viruses might be chemicals rather than tiny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5715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acteristics of Vir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small; from 20nm to 250nm in diame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nm = 0.001um = 0.00000004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u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nucleic aci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tein co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ucleic acid must be either DNA or R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trovirus – virus with R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. HIV is a retrovir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tein coat – called 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apsi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viruses have a membrane-like structure outside the capsid called an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nvelop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envelope, made up of lipids, is taken from a host cell membrane during replic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elope Vir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lu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ckenp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pes simpl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of Envelop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ions made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lycoprote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proteins are sugar chains that the virus uses to attach to a host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apes of Nucleic Aci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elic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ose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o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tr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apes of Viru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sosahedr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geometric shape with 20 triangular faces.  Ex. Herpes, chickenpox, pol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elix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coiled spring. Ex. Rabies, measles, tobacco mosaic vir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3:05:43Z</dcterms:created>
  <dc:creator>Student</dc:creator>
  <dc:description/>
  <dc:language>en-US</dc:language>
  <cp:lastModifiedBy>Student</cp:lastModifiedBy>
  <dcterms:modified xsi:type="dcterms:W3CDTF">2010-05-05T13:16:49Z</dcterms:modified>
  <cp:revision>20</cp:revision>
  <dc:subject/>
  <dc:title>Viruses</dc:title>
</cp:coreProperties>
</file>